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46294-EED6-4D59-9CD3-0F8782053B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2E579-C576-451B-8747-5661385F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44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9B4FD-5C79-44B2-9577-E4DFB8F7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8976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552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8976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552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095E6-6602-43AC-BB6B-F0698A8886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71106-031B-4EF9-84D7-417008A86F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77583-3144-4E77-9EFF-2EB72200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56F48-71C3-43FF-86C7-CDEFDEC3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B4203-789E-4EDD-88E2-5A7891EF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EC985-D138-4523-AEF0-477BDA21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0C35C-F32F-483F-9E88-4A71E2DB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40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4ED38-8935-432E-B4C2-AAFAA0D0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48768-03AE-428D-8A2D-DA9B9573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844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D01F6-43D2-4D00-A9AC-38158309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00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08B51-2BD0-453D-9A32-4FB7C5F5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400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D010F-EF08-473E-832F-7A1C63E3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40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844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A8955-4975-412E-9790-96E539B8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8976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5520" y="170028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400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8976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5520" y="4012200"/>
            <a:ext cx="25765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027F8-554C-4018-83BD-80315B4F95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DCB6-E1A3-4FA0-9DC0-ABE2CE8B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4DA0F-AEE5-4075-A6A1-5126812D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B5598-9553-481B-A029-E3C0EAB0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29084-865A-4CA6-81D4-73F0FC77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9D92-241C-4B74-9688-CDE0C5E6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4400" y="401220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69456-9D91-4B63-87E4-9F5A4C5F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4400" y="1700280"/>
            <a:ext cx="390492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4012200"/>
            <a:ext cx="80024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9C23-2245-42BC-874B-E16D1279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1017" t="3417" r="0" b="76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700280"/>
            <a:ext cx="80024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901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90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901"/>
              </a:spcBef>
              <a:buClr>
                <a:srgbClr val="ff7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901"/>
              </a:spcBef>
              <a:buClr>
                <a:srgbClr val="ff7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924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5460-E990-4A8B-BA11-E7191B7E32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32720" y="62596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e5e56"/>
                </a:solidFill>
                <a:latin typeface="Arial"/>
              </a:rPr>
              <a:t>your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12502" t="20677" r="12502" b="43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7f00"/>
                </a:solidFill>
                <a:latin typeface="Arial"/>
              </a:rPr>
              <a:t>Click to edit the title text format</a:t>
            </a:r>
            <a:endParaRPr b="1" lang="en-US" sz="8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56840" y="62053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3995280" y="62053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0D73-36F2-4D83-ADD5-D5EA38DCA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62596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e5e56"/>
                </a:solidFill>
                <a:latin typeface="Arial"/>
              </a:rPr>
              <a:t>your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4158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31960" algn="ctr">
              <a:spcBef>
                <a:spcPts val="700"/>
              </a:spcBef>
              <a:buClr>
                <a:srgbClr val="ff7f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248120" algn="ctr">
              <a:spcBef>
                <a:spcPts val="601"/>
              </a:spcBef>
              <a:buClr>
                <a:srgbClr val="ff7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663920" algn="ctr">
              <a:spcBef>
                <a:spcPts val="601"/>
              </a:spcBef>
              <a:buClr>
                <a:srgbClr val="ff7f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66392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66392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32000" y="414936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c3eea"/>
                </a:solidFill>
                <a:latin typeface="Tahoma"/>
              </a:rPr>
              <a:t>PILOT ISTRA</a:t>
            </a:r>
            <a:r>
              <a:rPr b="1" lang="sr-Latn-CS" sz="1800" spc="-1" strike="noStrike">
                <a:solidFill>
                  <a:srgbClr val="2c3eea"/>
                </a:solidFill>
                <a:latin typeface="Tahoma"/>
              </a:rPr>
              <a:t>ŽIVANJE</a:t>
            </a:r>
            <a:r>
              <a:rPr b="1" lang="en-US" sz="2000" spc="-1" strike="noStrike">
                <a:solidFill>
                  <a:srgbClr val="2c3eea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3eea"/>
                </a:solidFill>
                <a:latin typeface="Tahoma"/>
              </a:rPr>
              <a:t>RAZVOJ PRIVATNIH KOLEKCIJA</a:t>
            </a:r>
            <a:r>
              <a:rPr b="1" lang="sr-Latn-CS" sz="2000" spc="-1" strike="noStrike">
                <a:solidFill>
                  <a:srgbClr val="2c3eea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2c3eea"/>
                </a:solidFill>
                <a:latin typeface="Tahoma"/>
              </a:rPr>
              <a:t>U VOJVODINI</a:t>
            </a:r>
            <a:r>
              <a:rPr b="1" lang="sr-Latn-CS" sz="2000" spc="-1" strike="noStrike">
                <a:solidFill>
                  <a:srgbClr val="2c3eea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2c3eea"/>
                </a:solidFill>
                <a:latin typeface="Tahoma"/>
              </a:rPr>
              <a:t>OSNOVA ZA MALI I </a:t>
            </a:r>
            <a:r>
              <a:rPr b="1" lang="sr-Latn-CS" sz="2000" spc="-1" strike="noStrike">
                <a:solidFill>
                  <a:srgbClr val="2c3eea"/>
                </a:solidFill>
                <a:latin typeface="Tahoma"/>
              </a:rPr>
              <a:t>PORODIČNI POSA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35328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96360" y="6021360"/>
            <a:ext cx="1438200" cy="70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3eea"/>
                </a:solidFill>
                <a:latin typeface="Tahoma"/>
              </a:rPr>
              <a:t>ISTRA</a:t>
            </a:r>
            <a:r>
              <a:rPr b="0" lang="sr-Latn-CS" sz="2800" spc="-1" strike="noStrike">
                <a:solidFill>
                  <a:srgbClr val="2c3eea"/>
                </a:solidFill>
                <a:latin typeface="Tahoma"/>
              </a:rPr>
              <a:t>ŽIVANJE PRIVATNIH ZBIRKI/KOLEKCIJA U VOJVODINI:</a:t>
            </a:r>
            <a:r>
              <a:rPr b="0" lang="sr-Latn-CS" sz="2800" spc="-1" strike="noStrike">
                <a:solidFill>
                  <a:srgbClr val="06060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760640" y="1700280"/>
            <a:ext cx="392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6060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2c3eea"/>
                </a:solidFill>
                <a:latin typeface="Arial"/>
              </a:rPr>
              <a:t>50</a:t>
            </a: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 ZBIRKI/KOLEKC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2c3eea"/>
                </a:solidFill>
                <a:latin typeface="Arial"/>
              </a:rPr>
              <a:t>30</a:t>
            </a: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 KOLEKCIONA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2c3eea"/>
                </a:solidFill>
                <a:latin typeface="Arial"/>
              </a:rPr>
              <a:t>10</a:t>
            </a: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 ISPITANI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2c3eea"/>
                </a:solidFill>
                <a:latin typeface="Arial"/>
              </a:rPr>
              <a:t>POTPU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35328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4000" y="1484280"/>
            <a:ext cx="3816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2c3eea"/>
                </a:solidFill>
                <a:latin typeface="Arial"/>
              </a:rPr>
              <a:t>NEPOSREDNIM UVIDOM I SEKUNDARNIM IZVOROM PODATAKA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2c3eea"/>
                </a:solidFill>
                <a:latin typeface="Arial"/>
              </a:rPr>
              <a:t>BROJ KOLEKCIONARA SA KOJIMA SMO USPOSTAVILI SARADNJ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2c3eea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2c3eea"/>
                </a:solidFill>
                <a:latin typeface="Arial"/>
              </a:rPr>
              <a:t>UZORAK NA KOME JE SPROVEDENO PILOT ISTRAŽIV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51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2c3eea"/>
                </a:solidFill>
                <a:latin typeface="Arial"/>
              </a:rPr>
              <a:t>ODZIV I ZAINTERESOVANOST KOLEKCIONARA ZA ISTRAŽIVAN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8f8f8"/>
            </a:gs>
            <a:gs pos="100000">
              <a:srgbClr val="7272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2c3eea"/>
                </a:solidFill>
                <a:latin typeface="Tahoma"/>
              </a:rPr>
              <a:t>KOLEKCIJE/MUZEJI U VOJVODINI</a:t>
            </a:r>
            <a:endParaRPr b="0" lang="en-US" sz="24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760640" y="1700280"/>
            <a:ext cx="392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35328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2c3eea"/>
                </a:solidFill>
                <a:latin typeface="Tahoma"/>
              </a:rPr>
              <a:t>              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55280" y="2133360"/>
            <a:ext cx="79916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RAZNOVRSNOST TEMA I TIPOVA KOLEKC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ŠIROK SPEKTAR GRAĐE PRIKUPLJENIH ARTEFAK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RAZLIČITOST KONCEPTUALNO – ORGANIZACIONIH OKVI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PROGRAMSKA I ORGANIZACIJSKA RAZNOLIK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8f8f8"/>
            </a:gs>
            <a:gs pos="100000">
              <a:srgbClr val="7272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2c3eea"/>
                </a:solidFill>
                <a:latin typeface="Tahoma"/>
              </a:rPr>
              <a:t>AFIRMACIJA</a:t>
            </a:r>
            <a:r>
              <a:rPr b="0" lang="sr-Latn-CS" sz="2400" spc="-1" strike="noStrike">
                <a:solidFill>
                  <a:srgbClr val="060606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2c3eea"/>
                </a:solidFill>
                <a:latin typeface="Tahoma"/>
              </a:rPr>
              <a:t>PRIVATNIH KOLEKCIJA</a:t>
            </a:r>
            <a:endParaRPr b="0" lang="en-US" sz="24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35328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0920" y="1341000"/>
            <a:ext cx="800244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SPREMNOST KOLEKCIONARA DA SAMOSTALNO RAZVIJAJU POS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STRAST I OPTIMIZAM ZA OČUVANJE I BUDUĆNOST KOLEKC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PROGRAMSKO UOBLIČAVANJE I ADAPTACIJA IZLOŽBENOG PROST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ŽELJA ZA AFIRMACIJOM U LOKALNOJ SRED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OTVORENOST ZA RAZVIJANJE PARTNERSKIH ODNOSA SA LOKALNIM, POKRAJINSKIM I REPUBLIČKIM INSTITUCIJA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8f8f8"/>
            </a:gs>
            <a:gs pos="100000">
              <a:srgbClr val="72727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2c3eea"/>
                </a:solidFill>
                <a:latin typeface="Tahoma"/>
              </a:rPr>
              <a:t>MAPIRANJE PROBLEMA I POTEŠKOĆA</a:t>
            </a:r>
            <a:endParaRPr b="0" lang="en-US" sz="2400" spc="-1" strike="noStrike">
              <a:solidFill>
                <a:srgbClr val="ff7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9240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ENDOGEN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NEDOVOLJ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     </a:t>
            </a: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INFORMISA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NEDOSTATAK UVIDA U MOGUĆNOSTI I NAČINE AFIRM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NEARTIKULISANI PROGRAMSKI OKVI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NEDOSTATAK VEŠTINA RUKOVOĐENJA I UPRAVLJANJ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60640" y="1700280"/>
            <a:ext cx="3925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EKSTERN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ZAKONSKE PREPRE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ADMINISTRATIVNE (KOMPLIKOVANE) PROCED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NEZAINTERESOVANOST PREDSTAVNIKA JAVNOG SEKT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7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c3eea"/>
                </a:solidFill>
                <a:latin typeface="Arial"/>
              </a:rPr>
              <a:t>NEGATIVNO KOTIRANJE KOLEKCIONARA OD STRANE JAVNIH USTANOVA KULTURE</a:t>
            </a:r>
            <a:r>
              <a:rPr b="0" lang="sr-Latn-CS" sz="2000" spc="-1" strike="noStrike">
                <a:solidFill>
                  <a:srgbClr val="06060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35328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1413000"/>
            <a:ext cx="5400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2c3eea"/>
                </a:solidFill>
                <a:latin typeface="Arial"/>
              </a:rPr>
              <a:t>TOKOM PILOT ISTRAŽIVANJA NAMETNUO SE OPŠTI UTISAK DA JE:</a:t>
            </a:r>
            <a:br>
              <a:rPr sz="2000"/>
            </a:br>
            <a:br>
              <a:rPr sz="2000"/>
            </a:br>
            <a:r>
              <a:rPr b="1" i="1" lang="sr-Latn-CS" sz="2000" spc="-1" strike="noStrike">
                <a:solidFill>
                  <a:srgbClr val="2c3eea"/>
                </a:solidFill>
                <a:latin typeface="Arial"/>
              </a:rPr>
              <a:t>IZRAŽENA DOBRA VOLJA I SPREMNOST VLASNIKA ZBIRKI/KOLEKCIJA DA SARAĐUJU SA STUČNJACIMA, USTANOVAMA KULTURE, KAO I REPUBLIČKIM, POKRAJINSKIM I LOKALNIM JAVNIM INSTITUCIJAMA </a:t>
            </a:r>
            <a:br>
              <a:rPr sz="2000"/>
            </a:br>
            <a:r>
              <a:rPr b="1" i="1" lang="sr-Latn-CS" sz="2000" spc="-1" strike="noStrike">
                <a:solidFill>
                  <a:srgbClr val="2c3eea"/>
                </a:solidFill>
                <a:latin typeface="Arial"/>
              </a:rPr>
              <a:t> </a:t>
            </a:r>
            <a:br>
              <a:rPr sz="2000"/>
            </a:br>
            <a:r>
              <a:rPr b="1" i="1" lang="sr-Latn-CS" sz="2000" spc="-1" strike="noStrike">
                <a:solidFill>
                  <a:srgbClr val="2c3eea"/>
                </a:solidFill>
                <a:latin typeface="Arial"/>
              </a:rPr>
              <a:t>POSTOJI RAZNOVRSNOST INICIJATIVA, IDEJA I PREDLOGA KAO I ŽELJA ZA KONKRETNIM REŠENJIMA, UZ UMERENI OPTIMIZAM.</a:t>
            </a:r>
            <a:endParaRPr b="0" lang="en-US" sz="2000" spc="-1" strike="noStrike">
              <a:solidFill>
                <a:srgbClr val="ff7f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24720" y="6021360"/>
            <a:ext cx="1438200" cy="70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5:14:34Z</dcterms:created>
  <dc:creator>Presentation Magazine</dc:creator>
  <dc:description/>
  <dc:language>en-US</dc:language>
  <cp:lastModifiedBy>Lela</cp:lastModifiedBy>
  <dcterms:modified xsi:type="dcterms:W3CDTF">2009-12-02T08:33:25Z</dcterms:modified>
  <cp:revision>19</cp:revision>
  <dc:subject/>
  <dc:title>Zen Stones White template</dc:title>
</cp:coreProperties>
</file>